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Click to move the slide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AAE-CABD-4551-9554-01FD5F2F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67D-415E-4FA0-9A91-F08E89AF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364-D37E-435B-B4A0-65225EED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972B-7496-4B95-B6BB-D95E01B9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0E6-F81B-4795-8560-96012CEB3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5D04-7866-45E3-A56D-D29B0EC06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6B25-103C-4FDB-B92F-436B8EFD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7B7-60B7-4F9F-B915-DBBF6715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A04-CCF3-4F06-B0F6-CC3511DA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150-48A0-4CC7-957C-8359F479A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355-5266-4299-A46F-95AB4D5B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BAF-FD83-4C07-8B7F-D9588ABC3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2F22-7A11-4AF5-84E6-5A4F45A3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E76-C105-455B-8B55-D5201A7D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2E97-1DAB-4339-81EA-9A66EEBA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2BB-97C6-4146-BD41-068D64B8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946-ABFC-4358-889F-82113048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FFAB-3D88-4A9F-9D5F-46C6B018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6F6-9BB3-465B-9FAE-44E7249E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951-DE47-42E8-B1B0-87A2701A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65F2-DC63-4EC9-932F-A1F8E081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FD7-6AE1-4914-9E40-7CBB647A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E97-ED3B-4354-8FBE-036909B0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92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7396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892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7396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Click to edit the title text format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spcBef>
                <a:spcPts val="70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32080" indent="-289080">
              <a:spcBef>
                <a:spcPts val="700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7748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BifN69gcKY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95480" y="5762520"/>
            <a:ext cx="4800600" cy="398880"/>
          </a:xfrm>
          <a:prstGeom prst="rect">
            <a:avLst/>
          </a:prstGeom>
          <a:noFill/>
          <a:ln w="12600">
            <a:solidFill>
              <a:srgbClr val="ac7300"/>
            </a:solidFill>
            <a:miter/>
          </a:ln>
          <a:effectLst>
            <a:outerShdw dist="17819" dir="2700000" blurRad="0" rotWithShape="0">
              <a:srgbClr val="674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athan Hale H.S.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West Allis, W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52480" y="533520"/>
            <a:ext cx="7010640" cy="47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From Mercantilism to </a:t>
            </a:r>
            <a:br>
              <a:rPr sz="5400"/>
            </a:b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Capitalism:</a:t>
            </a:r>
            <a:br>
              <a:rPr sz="5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The Evolution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of the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Modern Capitalist System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4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5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NuclearExplosion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914400" y="5699160"/>
            <a:ext cx="6858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                Fort Duques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eorge Washington     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laware &amp; Shawn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Indian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8" descr="OhioRiverValley-1753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rench&amp;IndianWar-1763"/>
          <p:cNvPicPr/>
          <p:nvPr/>
        </p:nvPicPr>
        <p:blipFill>
          <a:blip r:embed="rId1"/>
          <a:stretch/>
        </p:blipFill>
        <p:spPr>
          <a:xfrm>
            <a:off x="1676520" y="106668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763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BilboDisplay"/>
              </a:rPr>
              <a:t>The Partitions of Poland</a:t>
            </a:r>
            <a:endParaRPr b="1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924680" y="3276720"/>
            <a:ext cx="1219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7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9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95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4" descr="map-Partitions of Poland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914400"/>
            <a:ext cx="6553080" cy="5257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447920" y="152280"/>
            <a:ext cx="7467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BilboDisplay"/>
              </a:rPr>
              <a:t>Russian Expansionism in the Late 18c</a:t>
            </a:r>
            <a:endParaRPr b="1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3" descr="PartitionOfPoland&amp;RussianExpansion-18c"/>
          <p:cNvPicPr/>
          <p:nvPr/>
        </p:nvPicPr>
        <p:blipFill>
          <a:blip r:embed="rId1"/>
          <a:stretch/>
        </p:blipFill>
        <p:spPr>
          <a:xfrm>
            <a:off x="2666880" y="1447920"/>
            <a:ext cx="5486400" cy="5045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Francois Quesnay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694-1774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04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rgeon who turned to medicine because of failing eyes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concerned about the state of the French economy, especially of French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Francois Quesnay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71600"/>
            <a:ext cx="3527280" cy="396252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bleau Économi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759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 reaction against the extreme mercantilist policies of Colbert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economic cla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prietary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landown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ductiv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gricultural labor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teril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rtisans &amp; merchant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ive work was the source of national weal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Quesnay-Tableau Economique"/>
          <p:cNvPicPr/>
          <p:nvPr/>
        </p:nvPicPr>
        <p:blipFill>
          <a:blip r:embed="rId1"/>
          <a:srcRect l="0" t="0" r="0" b="12190"/>
          <a:stretch/>
        </p:blipFill>
        <p:spPr>
          <a:xfrm>
            <a:off x="5562720" y="1219320"/>
            <a:ext cx="3305160" cy="48765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the wealth of the nation was derived from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4128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griculture was the productive sector of an economy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x only the landowning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4" descr="P_Brueghel the Elder-The Harvester - 156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0400" y="2590920"/>
            <a:ext cx="4572000" cy="33969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Capitalism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inv_hand_finger"/>
          <p:cNvPicPr/>
          <p:nvPr/>
        </p:nvPicPr>
        <p:blipFill>
          <a:blip r:embed="rId1">
            <a:lum contrast="18000"/>
          </a:blip>
          <a:srcRect l="0" t="0" r="0" b="13337"/>
          <a:stretch/>
        </p:blipFill>
        <p:spPr>
          <a:xfrm>
            <a:off x="3505320" y="1295280"/>
            <a:ext cx="3429000" cy="29718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4952880"/>
            <a:ext cx="693432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re, there it is again—the invisible hand of the marketplace giving us the finger.</a:t>
            </a:r>
            <a:endParaRPr b="0" lang="en-US" sz="26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Adam Smith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23-1790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6920" y="10663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ointed to the chair of logic in 1751 at the University of Glasgow, Scotlan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752 he transferred to the chair of philosoph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 his travels to France, he was influenced by the writings of the physiocrat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77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Theory of Moral Sentiments and an Inquiry Into the Nature of Causes of the Wealth of Nation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s publish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499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hement attack of the mercantilist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0" descr="Adam Smith-1"/>
          <p:cNvPicPr/>
          <p:nvPr/>
        </p:nvPicPr>
        <p:blipFill>
          <a:blip r:embed="rId1"/>
          <a:stretch/>
        </p:blipFill>
        <p:spPr>
          <a:xfrm>
            <a:off x="1523880" y="1143000"/>
            <a:ext cx="3262320" cy="459252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Mercantilism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The Wealth of Nations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76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107" name="Picture 7" descr="Wealth of Nations-2"/>
          <p:cNvPicPr/>
          <p:nvPr/>
        </p:nvPicPr>
        <p:blipFill>
          <a:blip r:embed="rId1"/>
          <a:stretch/>
        </p:blipFill>
        <p:spPr>
          <a:xfrm>
            <a:off x="1782720" y="1447920"/>
            <a:ext cx="3038400" cy="4762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pic>
        <p:nvPicPr>
          <p:cNvPr id="108" name="Picture 8" descr="Wealth of Nations-1"/>
          <p:cNvPicPr/>
          <p:nvPr/>
        </p:nvPicPr>
        <p:blipFill>
          <a:blip r:embed="rId2"/>
          <a:stretch/>
        </p:blipFill>
        <p:spPr>
          <a:xfrm>
            <a:off x="5211720" y="1447920"/>
            <a:ext cx="3551400" cy="48006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Adam Smith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s Attack on Mercantilism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was making a political argument, NOT an economic on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 of the argument was for new economic policy, but.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n essential part of the argument was for new social and political arrangements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argued that the basic unit for social analysis should be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ation, not the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against the belief that trade was a zero-sum g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t was a positive-sum gam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Both nations gained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40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3712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s and services are produced for profitable exchan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labor power is a commodity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BOR IS THE SOURCE OF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057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629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Households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276720" y="4038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3352680" y="59436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3657600" y="4419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657600" y="5562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343400" y="3733920"/>
            <a:ext cx="1981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Goods &amp; Service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38480" y="5897520"/>
            <a:ext cx="26672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bor &amp; Investment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267080" y="4373640"/>
            <a:ext cx="221004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Consumer Spending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267080" y="5257800"/>
            <a:ext cx="22100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Wage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“Invisible Hand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of the mar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How do we survive in a world where we must depend on many others, but where humans are by nature self-interested individuals?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Solution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free market, while appearing chaotic and unrestrained, is actually guided to produce the right amount and variety of goods by a so-calle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visible hand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refore, the bas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market mechanism i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regulating!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invisiblehand"/>
          <p:cNvPicPr/>
          <p:nvPr/>
        </p:nvPicPr>
        <p:blipFill>
          <a:blip r:embed="rId2"/>
          <a:stretch/>
        </p:blipFill>
        <p:spPr>
          <a:xfrm>
            <a:off x="6243480" y="4419720"/>
            <a:ext cx="1909800" cy="207144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440" y="11426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als seeking success are driven by self-interes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Profit Mot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Law of Supply and Dema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ndividuals who are free to pursue thei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interest will produce goods and services that others want, at prices others will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willing to pay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128" name="Picture 5" descr="supply_and_demand"/>
          <p:cNvPicPr/>
          <p:nvPr/>
        </p:nvPicPr>
        <p:blipFill>
          <a:blip r:embed="rId1"/>
          <a:stretch/>
        </p:blipFill>
        <p:spPr>
          <a:xfrm>
            <a:off x="3600360" y="3608280"/>
            <a:ext cx="3105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4519"/>
                </a:solidFill>
                <a:latin typeface="Comic Sans MS"/>
              </a:rPr>
              <a:t>Law of Competitio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ompetitive market system compels producers to be increasingly efficient, and to respond to the desires of consum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social division of labor will maximize the satisfaction of individual wants and needs, given scarce resource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overnment should interfere minimally with the free and efficient workings of the marke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4519"/>
                </a:solidFill>
                <a:latin typeface="Comic Sans MS"/>
              </a:rPr>
              <a:t>Laissez fai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[“Leave things alone.”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9903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Bullionism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eco. health of a nation could be measured by the amount of precious metal [gold or silver] which it posses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’ money was the source of prosperity, prestige, and strength for a n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487520" indent="-265320">
              <a:spcBef>
                <a:spcPts val="524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xport more than you import [a trade surplus]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igh tariffs on imported manufactured good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ow tariffs on imported raw material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80808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ation must try to achieve econom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-suffici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ose founding new industries should be rewarded by the stat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iving agriculture should be carefully encourag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of need to import f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sperous farmers could provide a base for tax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 power was necessary to control foreign marke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need to use the ships of other nations to carry your trade g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r own fleet adds to the power and prestige of the n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39152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 Colonies would provide captive markets for manufactured goods &amp; sources of raw material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rade is a </a:t>
            </a:r>
            <a:r>
              <a:rPr b="0" lang="en-US" sz="2700" spc="-1" strike="noStrike">
                <a:solidFill>
                  <a:srgbClr val="ff4519"/>
                </a:solidFill>
                <a:latin typeface="Comic Sans MS"/>
              </a:rPr>
              <a:t>“zero-sum” gam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 nation can gain in international trade only at the expense of other nation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200400" y="2257560"/>
            <a:ext cx="4543560" cy="1247760"/>
          </a:xfrm>
          <a:custGeom>
            <a:avLst/>
            <a:gdLst>
              <a:gd name="textAreaLeft" fmla="*/ 665280 w 4543560"/>
              <a:gd name="textAreaRight" fmla="*/ 3878280 w 4543560"/>
              <a:gd name="textAreaTop" fmla="*/ 182520 h 1247760"/>
              <a:gd name="textAreaBottom" fmla="*/ 1065240 h 12477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abe3c7"/>
          </a:solidFill>
          <a:ln w="9360">
            <a:solidFill>
              <a:srgbClr val="abe3c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6"/>
          <p:cNvSpPr/>
          <p:nvPr/>
        </p:nvSpPr>
        <p:spPr>
          <a:xfrm flipH="1" flipV="1">
            <a:off x="3199680" y="3628440"/>
            <a:ext cx="4543560" cy="1323720"/>
          </a:xfrm>
          <a:custGeom>
            <a:avLst/>
            <a:gdLst>
              <a:gd name="textAreaLeft" fmla="*/ 665280 w 4543560"/>
              <a:gd name="textAreaRight" fmla="*/ 3878280 w 4543560"/>
              <a:gd name="textAreaTop" fmla="*/ 193680 h 1323720"/>
              <a:gd name="textAreaBottom" fmla="*/ 1130040 h 1323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abe3c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78360" y="2239920"/>
            <a:ext cx="3108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nufactured good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124080" y="3962520"/>
            <a:ext cx="1447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aw material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9"/>
          <p:cNvSpPr/>
          <p:nvPr/>
        </p:nvSpPr>
        <p:spPr>
          <a:xfrm>
            <a:off x="2971800" y="297180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other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untry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6553080" y="327672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lony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191120" y="457200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heap labor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160" y="1220760"/>
            <a:ext cx="388620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rchitect of French mercantilism or “Colbertism.”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 was a bullionis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re are four professions of importance to the nation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gricultur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rm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av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form weights &amp; measur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posed tolls on internal tra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7" descr="jean_baptiste_colbert"/>
          <p:cNvPicPr/>
          <p:nvPr/>
        </p:nvPicPr>
        <p:blipFill>
          <a:blip r:embed="rId1"/>
          <a:srcRect l="0" t="0" r="2085" b="0"/>
          <a:stretch/>
        </p:blipFill>
        <p:spPr>
          <a:xfrm>
            <a:off x="1600200" y="1373040"/>
            <a:ext cx="3352680" cy="38847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upported mandatory labor on national road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avored a large population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850320" indent="-31104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ather of 10 or more children would be exempt from tax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avored low wages and child labor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6" descr="Colbert &amp; Louis XIV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8120" y="3672000"/>
            <a:ext cx="4495680" cy="2584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3048120" y="6338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lbert &amp; Louis XIV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197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Who Benefited Most From Mercantilism?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2133720"/>
            <a:ext cx="5562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arch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hant capitalis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t-stock compani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 offici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NoAmer-1750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3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2:32:30Z</dcterms:created>
  <dc:creator>Ms. Susan M. Pojer</dc:creator>
  <dc:description/>
  <dc:language>en-US</dc:language>
  <cp:lastModifiedBy>Kuenzi</cp:lastModifiedBy>
  <dcterms:modified xsi:type="dcterms:W3CDTF">2012-12-16T22:24:11Z</dcterms:modified>
  <cp:revision>65</cp:revision>
  <dc:subject/>
  <dc:title>From Mercantilism to Adam Smith:  The Evolution of the Modern Capitalist System</dc:title>
</cp:coreProperties>
</file>